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44C-B606-4CB4-A5B0-A1A3F18364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, специалисту необходимо спросить себя, насколько глубоко я готов говорить с родителями на тему суицида и его причинах, позаботиться о собственном эмоциональном состоянии; думать и планировать профилактическую работу с родителями от которой будет толк лучше в ресурс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218-2FF2-4EA1-A408-6FEDB0583B2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D6EE-6E83-4D7B-B891-584248F255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и не бояться делать каждому взрослому, работающему с детьми. И разъяснять это род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45A-1542-4B2A-A6BD-50938B2DDB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ечисленные способы помочь необходимо уметь дел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34BB-778E-4B67-9284-C3B98BB8C0D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методы используют специалисты. Они же необходимы в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A78A-DF6B-4072-B522-4E365A8867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ТД важен для подрост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ADC-8F52-4419-BAE2-366675E907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дителями важно говорить о отношениях между папой и мамой, которые будут служить детям опорой, о нахождение путей взаимодействия, общения друг с другом, несмотря на раз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моббинг, общение в Интернет – пространстве через социальные сети, чаты мгновенных сооб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039-A68C-468E-BD67-8845C7253C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D73-DF0C-4BC0-9028-DC8930A0AA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ный фон. Сами по себе говорят о нездоровье, как физическом, так и психическом наличии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CE8-6E24-4B8A-A003-CAFE8AE731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сами по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39D-AA41-47C3-A7EB-BA50214975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61B-E84D-4EA8-BB28-F02226C1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71A-1667-4448-A18D-94917098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A47-88AE-41C7-908C-6DF72589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C9B-E9BB-478E-BFF1-3271B272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A9D-F45A-41DB-8106-C4978FB4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F7D-4C73-4E59-8EFA-0717043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BAA-47EB-41B0-8F14-E3374ADC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F743-482F-4D3A-996B-6692B89A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EEAD-F048-43F3-9BD1-63A153C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9C03-BE39-4EF7-A2B7-65AFB9C6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0C5-DAA9-47DA-B607-E791B6DD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464-B0B2-4C53-8142-17C061B1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A557-226F-4896-92B5-2EB578A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D70-F723-447A-9CED-517A541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99F-2230-4BFD-8583-C75CE1F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3354-7CA3-4103-AE33-E3EC5592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320C-E4BB-41B5-8A87-73F5C685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2454-8FE2-4E4B-9DB1-B5FA931D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A1A5-4E46-4273-9BF3-8AB6093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9018-5FDA-4C3C-AFF7-511E6F0F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E54D-02C9-496D-A069-74123E6D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D4C4-BDB8-4DB7-AE93-625F380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929-5AC4-471E-8707-7C281AD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C6A6-3E91-4680-8742-C712F544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C4E5-A906-4FE7-AED4-24D5CFA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1B75-1021-440D-8CF2-02268CE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12EA-3682-45AA-B3BA-D0B344D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8E57-8E2E-4EE7-B73B-0249803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6541-2317-456F-8B3A-6B4FF52E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CC37-BE07-4BB5-8206-80AE5F62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8B20-654F-438B-A7DF-242DC6F7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2E8A-A543-4444-9EFD-07A022C6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F281-B06E-415F-8870-E961831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9B0-7F40-4AD8-B61F-8724DEC7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E3FD-5F74-403C-B6BA-7E64375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CAC91-31DA-4912-9438-C42BF2CB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C89E-550E-4F0A-9763-CCE72E6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1209-6AFA-4A99-9F4A-3C39DA3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3654-1C0E-4BC5-A7A3-50805CB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E11A-64CD-4740-A04B-21443A2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E24B-D53D-4F05-8277-68DFED3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37768-DE42-4A66-A992-91B317EC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160C-864D-4FB7-A638-0BC33838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76CC-2169-42FB-A8DE-E92F6E60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E10-03F2-4FD5-B9A1-DC8F6271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614C-C163-4E89-A1DB-BBD4E84C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8DBF-F6CC-453A-972E-1C4E217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71A8-480E-4DB5-B33E-D550A1DA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0B4A-EFE7-40BB-9251-E735F684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A07A-0B3B-4587-A19B-D4A3DE6D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5FEB-3F19-40B3-BF7D-8913789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9B26-C27E-4FD9-B964-F06FFA1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E36B-68B7-41D7-9E63-F3C68EB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ED5F-2FB2-4F4F-A058-CDD69A0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0DAC1-0B64-4646-B313-9D4ECEE9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6B1-1C42-48DB-A736-C1E99B1E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6DB9-059E-497D-A1C7-33CEB5A0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9D8DC-CF44-45C1-BDAF-053984E5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533B7-E08F-46D6-823B-D9BD320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DB7FB-888E-4424-8C1F-E8AD4654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D4CC4-339B-421D-A250-C8DC3BF1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9605E-23E5-4CFA-8D2B-E6389CA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B5052-48F1-4AE0-9D62-4EBC4DA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4760D-9398-441D-BE6D-2292EDC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144EC-2317-422B-8764-F85CF3C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05C18-BC98-4CDF-B7FF-779BC46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C78-5C20-421D-85C9-0C23552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FA61A-BA0C-48E7-A5D7-438059F8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548D8-6103-4B35-AC4F-42B7C71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0DA10-48EE-4119-9FA3-560B8F0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56FC-A2DD-4557-A971-78700288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1FEC-9FAB-4860-A2BC-29D457D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CA3A-2736-4AD1-AB01-7025A83F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1648-9D90-4C44-AF2C-C7664C4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4160-4DE1-4781-939E-57EB94C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A012-C6C5-4CEF-A92F-A03D51C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21C3-931D-4FE6-A74C-81C873C9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A71-9888-4397-89FA-0CD572A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22F2-BAAC-4770-8DD2-3632F40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15219-71DB-4C84-ACA5-9C55959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791D-18D7-4D25-A4AC-BA7E363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C8F4-AE55-4CC7-83F8-4F694F6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39DC-B96F-4E72-AD2B-EB3B3ADA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CB4-0380-4372-B6D6-A75C83A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D9F-B605-42C9-9CB8-7F2AD35B9867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83C6-9FBB-4505-AFBC-D54D98A25E91}" type="slidenum">
              <a:rPr b="0" lang="ru-RU" sz="2800" spc="-1" strike="noStrike">
                <a:solidFill>
                  <a:srgbClr val="47534c"/>
                </a:solidFill>
                <a:latin typeface="Garamon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544-599E-482C-9E4B-74B8AC7742FA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841-51B2-4B44-898E-A58D755C2203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83E-31BA-477A-8202-9BFCA29EB775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38F1-55E0-46AE-828B-96B6B1976E97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54B-130B-435D-90C3-04DB1DD6522B}" type="slidenum">
              <a:rPr b="0" lang="ru-RU" sz="1200" spc="-1" strike="noStrike">
                <a:solidFill>
                  <a:srgbClr val="564b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1920" y="214200"/>
            <a:ext cx="870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МБУ МП г.Казани «Комплексный Центр социального обслуживания детей и молодежи «Доверие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Предупреждение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суицидального поведения у детей и  подростков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руководитель ОППП «Сердэш»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Н.А.Сабирова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Казань 2017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0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7286760" y="1571760"/>
            <a:ext cx="1380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СЛЕДУЕТ ОБРАЩАТЬ ВНИМАНИЕ НА СЛЕДУЮЩИЕ ЗАЯВЛЕНИЯ: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навижу жизнь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всем будет лучше без мен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мне нечего ждать от жизн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они пожалеют о том, что мне сделал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е могу этого вынести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стал обузой для всех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я покончу с собой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никому я не нужен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скоро все закончится»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«это выше моих сил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85480" y="1571760"/>
            <a:ext cx="8483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станавливай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доброжелательные взаимоотношения со всеми деть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оворите с ребенком /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Важен эмоциональный контакт 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Дайте возможность выговориться ему. Слушайте со всем вниманием, не осуждая, что даёт возможность выговориться без боязни быть прерванным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покойно и доходчиво спрашивайте о тревожащей ситуации, без обвинения, «допроса» и осуждени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являйт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заботу,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оддержку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, участие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буйте понимать чувства, которые испытывает ребенок,  помогайте ему сохранить веру в себя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ЧТО МОГУТ ДЕЛАТЬ РОДИТЕЛИ И СПЕЦИАЛИСТЫ</a:t>
            </a:r>
            <a:br>
              <a:rPr sz="2200"/>
            </a:br>
            <a:r>
              <a:rPr b="1" lang="ru-RU" sz="2200" spc="-1" strike="noStrike">
                <a:solidFill>
                  <a:srgbClr val="6b7d72"/>
                </a:solidFill>
                <a:latin typeface="Book Antiqua"/>
              </a:rPr>
              <a:t>ДЛЯ  ПРЕДУПРЕЖДЕНИЯ СУИЦИДАЛЬНЫХ ПОПЫТОК</a:t>
            </a: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4200" y="142884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224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пределите источник дискомфорта, причину конфликта. Окажите помощь в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решении актуальной проблем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пытайтес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уменьшить степень психологической зависимости от причины,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повлекшей суицидальное поведение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селяйте надежду, что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облему можно решить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 Приведите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примеры конструктивного выхода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из подобной ситуации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ите использовать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оды снятия психологического напряжения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ребенку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осознать личностные ресурсы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550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могите ему 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определить реалистичную перспективу на будуще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РЕКОМЕНДАЦИИ ПО ПРОВЕДЕНИЮ БЕСЕДЫ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50012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азговаривайте в спокойном месте, чтобы избежать возможности быть прерванным в беседе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деляйте всё внимание собеседнику, смотрите на него, удобно, без напряжения расположившись напротив, но не через стол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ерескажите то, что собеседник рассказал вам, чтобы он убедился, что вы действительно поняли суть услышанного и ничего не пропустил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айте возможность собеседнику высказаться, не перебивая его, и говорите только тогда, когда он перестанет говори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Говорить без осуждения и пристрастия, что способствует усиление у собеседника чувства собственного достоинства; произносить только конструктивные фразы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МОЩЬ В СЛУЧАЯХ СУИЦИДАЛЬНО-ОРИЕНТИРОВАННОГО ПОВЕДЕНИЯ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Основные метод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Эмоциональная поддержк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воевременная  консультация специалиста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оощрение положительных устремлений для облегчения ситуации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Обучение социальным навыкам и умениям преодоления стресса 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собственном пример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ЕСЛИ У РЕБЕНКА ТЯЖЕЛОЕ ЭМОЦИОНАЛЬНОЕ СОСТОЯНИЕ (ВЫСОКИЙ РИСК СУИЦИДА)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14200" y="1571760"/>
            <a:ext cx="8501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 оставляйте ребенка одного/сообщите взрослому, кто отвечает за ребен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льзя в такой ситуации спорить с ребенком, обвинять,  осуждать, игнорировать ег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Обязательно обратитесь к специалистам, направьте родителей на консультацию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(психиатру, психотерапевту, психологу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МБУ МП г. Казани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«Комплексный Центр социального обслуживания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детей и молодежи «Доверие»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900" spc="-1" strike="noStrike">
                <a:solidFill>
                  <a:srgbClr val="564b3c"/>
                </a:solidFill>
                <a:latin typeface="Century Gothic"/>
              </a:rPr>
              <a:t>Отделение психолого-педагогической помощи «Сердэш» 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ши контакты: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г. Казань,   ул. Годовикова, 14, 2-ой подъезд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тро «Авиастроительная», ост. Максимов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Тел.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571-15-80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www.kcsodoverie.ru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64b3c"/>
                </a:solidFill>
                <a:latin typeface="Century Gothic"/>
              </a:rPr>
              <a:t>vk.com/serdesh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1" name="Picture 10" descr="D:\Desktop\Основной рабочий стол\СЕРДЭШ ТЕКУЩЕЕ\ВАЖНОЕ\logo_new Сердэш.png"/>
          <p:cNvPicPr/>
          <p:nvPr/>
        </p:nvPicPr>
        <p:blipFill>
          <a:blip r:embed="rId1"/>
          <a:stretch/>
        </p:blipFill>
        <p:spPr>
          <a:xfrm>
            <a:off x="3851280" y="1841400"/>
            <a:ext cx="147780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Доверия</a:t>
            </a: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кризисной медико-психологической помощи «Сердеш 129»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279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55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-80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Century Gothic"/>
              </a:rPr>
              <a:t>Телефон доверия  г. Казани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277 - 00 – 00 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Century Gothic"/>
              </a:rPr>
              <a:t>(общая линия)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0382d"/>
                </a:solidFill>
                <a:latin typeface="Century Gothic"/>
              </a:rPr>
              <a:t>Анонимно     Круглосуточно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ЭКСТРЕННАЯ  ПСИХОЛОГИЧЕСКАЯ ПОМОЩЬ ПО ТЕЛЕФОНУ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8360" y="1311120"/>
            <a:ext cx="8207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4b3c"/>
                </a:solidFill>
                <a:latin typeface="Century Gothic"/>
              </a:rPr>
              <a:t>Телефон Доверия для детей, подростков и их родителей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8-800-2000-122</a:t>
            </a:r>
            <a:r>
              <a:rPr b="0" lang="ru-RU" sz="40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82d"/>
                </a:solidFill>
                <a:latin typeface="Century Gothic"/>
              </a:rPr>
              <a:t>Анонимно       Бесплатно    Круглосуточн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Рисунок 3" descr="http://fond-detyam.ru/detskiy-telefon-doveriya/ДТД.JPG"/>
          <p:cNvPicPr/>
          <p:nvPr/>
        </p:nvPicPr>
        <p:blipFill>
          <a:blip r:embed="rId1"/>
          <a:stretch/>
        </p:blipFill>
        <p:spPr>
          <a:xfrm>
            <a:off x="7308720" y="3108240"/>
            <a:ext cx="15004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15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В ПОДРОСТКОВОМ ВОЗРАСТЕ, В СИЛУ ОСОБЕННОСТИ  РАЗВИТИЯ ЧЕЛОВЕКА НА ДАННОМ ВОЗРАСТНОМ ЭТАПЕ, </a:t>
            </a:r>
            <a:r>
              <a:rPr b="1" lang="ru-RU" sz="2000" spc="-1" strike="noStrike" u="sng">
                <a:solidFill>
                  <a:srgbClr val="6b7d72"/>
                </a:solidFill>
                <a:uFillTx/>
                <a:latin typeface="Book Antiqua"/>
              </a:rPr>
              <a:t>ЛЮБАЯ СИТУАЦИЯ МОЖЕТ БЫТЬ </a:t>
            </a:r>
            <a:r>
              <a:rPr b="1" lang="ru-RU" sz="2000" spc="-1" strike="noStrike">
                <a:solidFill>
                  <a:srgbClr val="6b7d72"/>
                </a:solidFill>
                <a:latin typeface="Book Antiqua"/>
              </a:rPr>
              <a:t>ГИПЕРБОЛИЗИРОВАНА, СТАТЬ  ТРАВМИРУЮЩЕЙ: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5001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больших перемен в психологическом,     социальном, физиологическом план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приобретения социальных навык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конструктивно общаться /через ссоры, конфликтные ситуации, обесценивание опыта взрослых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- умение преподносить себя / через переживание насмешек, придирок, критики и т.п.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время болезненного поиска себя, своего места в жизни;   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много переживаний: ссоры с родителями, первая влюбленность, комплексы по поводу внешности, непростые отношения со сверстникам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</a:rPr>
              <a:t>потребность в близком друге, которому можно доверить свои тайны и страх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7715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ПОЧЕМУ ДЕТИ РЕШАЮТСЯ НА СУИЦИД…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первом  месте – сложная для ребенка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емейная обстановка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.т.ч.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фликтный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, уход одного из родителей из семьи,  конфликты, насилие  между родными и близкими, жестокое обращение с ребенком, психологическое, физическое и    сексуальное насил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втором месте –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еразделенная любовь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ретьем – конфликты со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верстниками, проблемы, связанные с обучение в школе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/преследование , отвержение, неприятие в реальном школьном пространстве, в виртуальных социальных сообщества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НОВНЫЕ МОТИВЫ СУИЦИДАЛЬНОГО ПОВЕДЕНИЯ У ДЕТЕЙ И ПОДРОСТКОВ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е обиды, одиночества, отчужденности, непонима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ействительная или мнимая утрата любви родителей, неразделенное чувство или рев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Завышенные требования , игнорирование как лич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ереживания, связанные со смертью, разводом или уходом родителей из семь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вины, стыда, оскорбленного самолюбия, самообвин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Боязнь позора, насмешек или унижени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трах наказания, нежелания извинитьс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Любовные неудачи, сексуальные эксцессы, беременность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Чувство мести, злобы, протеста; угроза или вымогательство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Желание привлечь к себе внимание, вызвать сочувстви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110000"/>
              </a:lnSpc>
              <a:spcBef>
                <a:spcPts val="451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чувствие или подражание друзьям, героям фильмов, кумирам, влияние сообщества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b7d72"/>
                </a:solidFill>
                <a:latin typeface="Book Antiqua"/>
              </a:rPr>
              <a:t>ОСОБЕННОСТИ СУИЦИДАЛЬНОГО ПОВЕДЕНИЯ ПОДРОСТКОВ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2139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щущение безысходности, неразрешимости конфликта, чувство отчаяния и одиночества возникают в следствии отсутствия достаточного жизненного опыта,  юношеского максимализма, неумения предвидеть истинные последствия своих поступков и прогнозировать исходы сложившейся ситуац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в подростковом возрасте: эмоциональная неустойчивость, повышенная внушаемость, сензитивность, импульсивность могут  формировать  предпосылки к суицидальному поведению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 95% случаев имеется отягощенный семейный анамнез: хронический алкоголизм родителей; характеропатии и личностные акцентуации родителей, создающие напряженность в семье; патология у родственников и родителей, депрессии, психозы, случаи суицидов в семьях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ОВЫШАЕТ РИСК СУИЦИДАЛЬНОГО ПОВЕДЕНИЯ У ПОДРОСТКОВ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потребление алкоголя, наркотических препаратов /по статистике случаев с связанных с употреблением не было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сталость, длительный стресс /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ремя сдачи экзаменов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Конфликты, связанные с учебой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Чувство беспомощности,  безнадеж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сутствие ситуации успеха в значимых видах деятельност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Материальные  трудност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собенности личности (повышенная эмоциональность, впечатлительность, импульсивность, демонстративность)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сихические расстройства, особенно тяжелые депрессии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Хронические или смертельные болезн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енденция к самоповреждению; агрессия,  направленная на себ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личие предыдущей (незаконченной) попытки суицида, суицид в семь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ФИЗИОЛОГИ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теря аппетита или чрезмерный импульсивный аппетит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нижение или повышение веса тел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сонница или повышенная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ритма сна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шение менструального цикла;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астые жалобы на боли в животе, головные боли, постоянную усталость, сонливость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чащенный пульс, сердцеби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ышенное артериальное давлени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ухость во рту, нехватка воздуха, ощущение стесненного дыхания, комка в горле;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Чувство физической тяжест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412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ЭМОЦИОНАЛЬНЫ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8000" y="1642680"/>
            <a:ext cx="84358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ход от контактов, изоляция от друзей и семь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езапные приступы гнев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скуки при деятельности, которая раньше приносила удовольствие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ссимистическая оценка прошлого, настоящего, отсутствие планов и перспектив в будущем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увство беспомощности и зависимост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ообвинения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ность, безразличи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ревога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р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7d72"/>
                </a:solidFill>
                <a:latin typeface="Book Antiqua"/>
              </a:rPr>
              <a:t>ПРИЗНАКИ, НА КОТОРЫЕ НЕОБХОДИМО ОБРАЩАТЬ ВНИМАНИЕ. </a:t>
            </a: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ОВЕДЕНЧЕСКИЕ: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4304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Резкое снижение активности в реальном мире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менение привычек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еобычно пренебрежительное отношение к своему внешнему виду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лонность к неоправданно рискованным поступкам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Злоупотребление психоактивными веществами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Выбор тем разговора, книг, музыки, фильмов связанных со смертью и самоубийствам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ямые и косвенные сообщения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Шутки, иронические высказывания о бессмысленности жизни, желании умереть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зучение и приобретение  средств для совершения суицида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ообщения о конкретном плане суицид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ход из дома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исьма к близким, раздаривание вещей;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щание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2:30:56Z</dcterms:created>
  <dc:creator>User</dc:creator>
  <dc:description/>
  <dc:language>en-US</dc:language>
  <cp:lastModifiedBy>User</cp:lastModifiedBy>
  <dcterms:modified xsi:type="dcterms:W3CDTF">2017-03-24T13:02:25Z</dcterms:modified>
  <cp:revision>39</cp:revision>
  <dc:subject/>
  <dc:title>Слайд 1</dc:title>
</cp:coreProperties>
</file>